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gif" ContentType="image/gif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D4B9A-9A58-4139-889F-66AED57F4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94D8D-D17C-48AA-A1A8-41595F3FC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EE1CB-C007-47DD-BF03-471C88956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7B8E8-1AD0-47CC-AEDA-C40061526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A4C4AD-FA2B-4764-BE84-E4B2A2679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82F05E-4242-43B1-842A-89F56BBA2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9AACF2-81B1-4F77-944C-F5ADDEF78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558810-8D5A-405D-86D9-D303317A0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061F79-6D75-41A1-A4F2-0DCCEA4D6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55364E-6FB2-4897-B0CF-90D3480CF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3E7352-24BB-4B27-B0B5-4C572756C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255D4-3AF7-434C-8369-B14A0A50E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CE7F9E-DEF1-470E-9BBF-A8101CB75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54E54B-A2A7-4027-8A01-6EE22B30E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846DF6-34D4-4295-BFB7-2E09B56CB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8FDBD3-17FF-4812-B736-D8533DF9C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0E0874-F7B3-4F19-96BC-CCB44DFFA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B9D5D-BF17-4B8C-8945-EDB6B15EF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5A6F8-2960-4457-9ED7-CF5A2F7D9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1C0CF-14AB-4891-AAA2-7F3337816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E90DA-B1E9-45C2-8814-EB4FA3482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D5A72-E16A-4A6D-86F1-FE394241D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4EB51-5698-40FC-9FDB-3B789CEB0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42427-774A-4588-80E5-057A457C4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8089D-CC1F-47BA-9AAA-D6CB27E374F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5F78F-F136-47A2-8B29-66EF01D13B0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fotosearch.it/UNE411/u12767339/" TargetMode="External"/><Relationship Id="rId3" Type="http://schemas.openxmlformats.org/officeDocument/2006/relationships/hyperlink" Target="http://www.fotosearch.it/UNE411/u12767339/" TargetMode="External"/><Relationship Id="rId4" Type="http://schemas.openxmlformats.org/officeDocument/2006/relationships/hyperlink" Target="http://www.fotosearch.it/UNE411/u12767339/" TargetMode="External"/><Relationship Id="rId5" Type="http://schemas.openxmlformats.org/officeDocument/2006/relationships/hyperlink" Target="http://www.fotosearch.it/UNE411/u12400036/" TargetMode="External"/><Relationship Id="rId6" Type="http://schemas.openxmlformats.org/officeDocument/2006/relationships/hyperlink" Target="http://www.fotosearch.it/UNE411/u12400036/" TargetMode="External"/><Relationship Id="rId7" Type="http://schemas.openxmlformats.org/officeDocument/2006/relationships/image" Target="../media/image14.jpeg"/><Relationship Id="rId8" Type="http://schemas.openxmlformats.org/officeDocument/2006/relationships/image" Target="../media/image15.jpeg"/><Relationship Id="rId9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giallozafferano.it/ingredienti/Cioccolato" TargetMode="External"/><Relationship Id="rId3" Type="http://schemas.openxmlformats.org/officeDocument/2006/relationships/hyperlink" Target="http://www.giallozafferano.it/ingredienti/Mandorle" TargetMode="External"/><Relationship Id="rId4" Type="http://schemas.openxmlformats.org/officeDocument/2006/relationships/hyperlink" Target="http://www.giallozafferano.it/ingredienti/Uvetta" TargetMode="External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440" y="1996920"/>
            <a:ext cx="8458200" cy="13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Script MT Bold"/>
              </a:rPr>
              <a:t>          </a:t>
            </a:r>
            <a:r>
              <a:rPr b="0" lang="en-US" sz="9600" spc="-1" strike="noStrike">
                <a:solidFill>
                  <a:srgbClr val="ffffff"/>
                </a:solidFill>
                <a:latin typeface="Script MT Bold"/>
              </a:rPr>
              <a:t>L’inverno</a:t>
            </a:r>
            <a:br>
              <a:rPr sz="9600"/>
            </a:br>
            <a:endParaRPr b="0" lang="en-US" sz="9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0" y="3644640"/>
            <a:ext cx="5472000" cy="20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Papyrus"/>
              </a:rPr>
              <a:t>Feste tradizionali e usanze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6012000" y="3967200"/>
            <a:ext cx="2881080" cy="2857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0" y="0"/>
            <a:ext cx="3851280" cy="28098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0" y="5877000"/>
            <a:ext cx="508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lina Pop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lasa a XI-a 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apodanno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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 va a una festa a casa degli amic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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l ristoran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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uno schalet in montagn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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 mette qualcosa di ross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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 mangia pes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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 dolci sono al ciocolato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5219640" y="1557360"/>
            <a:ext cx="3456000" cy="230328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5292720" y="4149720"/>
            <a:ext cx="3382920" cy="233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Script MT Bold"/>
              </a:rPr>
              <a:t>Il vischio e lo champagn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5219640" y="4437000"/>
            <a:ext cx="2695680" cy="198144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5076720" y="1700280"/>
            <a:ext cx="2951280" cy="244944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826920" y="1916280"/>
            <a:ext cx="316872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Script MT Bold"/>
              </a:rPr>
              <a:t>Auguri!!!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788000" y="198900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Wingdings"/>
                <a:ea typeface="Wingdings"/>
              </a:rPr>
              <a:t>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Buone feste!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>
              <a:spcBef>
                <a:spcPts val="1001"/>
              </a:spcBef>
              <a:buClr>
                <a:srgbClr val="ffcc00"/>
              </a:buClr>
              <a:buSzPct val="120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Felice        Capodanno!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>
              <a:spcBef>
                <a:spcPts val="1001"/>
              </a:spcBef>
              <a:buClr>
                <a:srgbClr val="ffcc00"/>
              </a:buClr>
              <a:buSzPct val="120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Una vacanza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incantevole!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179280" y="2708280"/>
            <a:ext cx="446400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Rage Italic"/>
              </a:rPr>
              <a:t>Preparativi per le feste natalizie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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rredare la cas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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ndare le cartolin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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rnare l’albero di Natale con le pallin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755640" y="4005360"/>
            <a:ext cx="3456000" cy="237636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5076720" y="1341360"/>
            <a:ext cx="3095640" cy="21589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5292720" y="3500280"/>
            <a:ext cx="266400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Script MT Bold"/>
              </a:rPr>
              <a:t>Comprare i regalli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539640" y="1268280"/>
            <a:ext cx="3672000" cy="55897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4932360" y="4076640"/>
            <a:ext cx="3816360" cy="2448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4"/>
          <a:stretch/>
        </p:blipFill>
        <p:spPr>
          <a:xfrm>
            <a:off x="5508720" y="1268280"/>
            <a:ext cx="2592360" cy="27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Rage Italic"/>
              </a:rPr>
              <a:t>Pasqua con chi vuoi, 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Rage Italic"/>
              </a:rPr>
              <a:t>Natale con i tuoi!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648320" y="1904760"/>
            <a:ext cx="40384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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tare in famigli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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antare delle canzoni natalizie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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spettare il Babbo Natal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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prire i regal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600120" y="1905120"/>
            <a:ext cx="3752640" cy="41148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4648320" y="4005360"/>
            <a:ext cx="4495680" cy="21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Script MT Bold"/>
              </a:rPr>
              <a:t>cibi natalizi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611280" y="1628640"/>
            <a:ext cx="3816360" cy="23050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rcRect l="0" t="0" r="-73370" b="0"/>
          <a:stretch/>
        </p:blipFill>
        <p:spPr>
          <a:xfrm>
            <a:off x="5219640" y="4365720"/>
            <a:ext cx="5472000" cy="215892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 txBox="1"/>
          <p:nvPr/>
        </p:nvSpPr>
        <p:spPr>
          <a:xfrm>
            <a:off x="457200" y="4038480"/>
            <a:ext cx="403848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l tacchin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a pasta artigianal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l parmiggian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alse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rrost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648320" y="1904760"/>
            <a:ext cx="40384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atate al limone e tim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agliatelle con frutti di mar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artina con salmone affumicat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DOLCI   NATALIZI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00"/>
                </a:solidFill>
                <a:uFillTx/>
                <a:latin typeface="Tahoma"/>
                <a:hlinkClick r:id="rId2"/>
              </a:rPr>
              <a:t>pan </a:t>
            </a:r>
            <a:r>
              <a:rPr b="0" lang="en-US" sz="2800" spc="-1" strike="noStrike" u="sng">
                <a:solidFill>
                  <a:srgbClr val="ffcc00"/>
                </a:solidFill>
                <a:uFillTx/>
                <a:latin typeface="Tahoma"/>
                <a:hlinkClick r:id="rId3"/>
              </a:rPr>
              <a:t>zenzero</a:t>
            </a:r>
            <a:r>
              <a:rPr b="0" lang="en-US" sz="2800" spc="-1" strike="noStrike" u="sng">
                <a:solidFill>
                  <a:srgbClr val="ffcc00"/>
                </a:solidFill>
                <a:uFillTx/>
                <a:latin typeface="Tahoma"/>
                <a:hlinkClick r:id="rId4"/>
              </a:rPr>
              <a:t>, casa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00"/>
                </a:solidFill>
                <a:uFillTx/>
                <a:latin typeface="Tahoma"/>
                <a:hlinkClick r:id="rId5"/>
              </a:rPr>
              <a:t>imbottito</a:t>
            </a:r>
            <a:r>
              <a:rPr b="0" lang="en-US" sz="2800" spc="-1" strike="noStrike" u="sng">
                <a:solidFill>
                  <a:srgbClr val="ffcc00"/>
                </a:solidFill>
                <a:uFillTx/>
                <a:latin typeface="Tahoma"/>
                <a:hlinkClick r:id="rId6"/>
              </a:rPr>
              <a:t>, dat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torta al ciocolat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mandorle zucchera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menta piperit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caramel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5587920" y="2082960"/>
            <a:ext cx="2158920" cy="16254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8"/>
          <a:stretch/>
        </p:blipFill>
        <p:spPr>
          <a:xfrm>
            <a:off x="5587920" y="4216320"/>
            <a:ext cx="21589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l panettone 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4038480"/>
            <a:ext cx="403848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fezionato in mille modi diversi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mpli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 le creme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 il </a:t>
            </a:r>
            <a:r>
              <a:rPr b="0" lang="en-US" sz="2800" spc="-1" strike="noStrike" u="sng">
                <a:solidFill>
                  <a:srgbClr val="ffcc00"/>
                </a:solidFill>
                <a:uFillTx/>
                <a:latin typeface="Tahoma"/>
                <a:hlinkClick r:id="rId2"/>
              </a:rPr>
              <a:t>cioccolat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 o senza copertura di glassa e </a:t>
            </a:r>
            <a:r>
              <a:rPr b="0" lang="en-US" sz="2800" spc="-1" strike="noStrike" u="sng">
                <a:solidFill>
                  <a:srgbClr val="ffcc00"/>
                </a:solidFill>
                <a:uFillTx/>
                <a:latin typeface="Tahoma"/>
                <a:hlinkClick r:id="rId3"/>
              </a:rPr>
              <a:t>mandor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nza candit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 o senza </a:t>
            </a:r>
            <a:r>
              <a:rPr b="0" lang="en-US" sz="2800" spc="-1" strike="noStrike" u="sng">
                <a:solidFill>
                  <a:srgbClr val="ffcc00"/>
                </a:solidFill>
                <a:uFillTx/>
                <a:latin typeface="Tahoma"/>
                <a:hlinkClick r:id="rId4"/>
              </a:rPr>
              <a:t>uvett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5"/>
          <a:stretch/>
        </p:blipFill>
        <p:spPr>
          <a:xfrm>
            <a:off x="179280" y="1557360"/>
            <a:ext cx="439272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Rage Italic"/>
              </a:rPr>
              <a:t>La nascita di Gesu Cristo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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 va insieme alla famiglia in chies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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 partecipa alla messa di Nata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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 ascolta in concerto straordinario di Nata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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 va al pranzo religios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1187280" y="4724280"/>
            <a:ext cx="3527640" cy="21337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250920" y="1197000"/>
            <a:ext cx="273672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IL PRESEP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6084360" y="1905120"/>
            <a:ext cx="280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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cena dela nascita di Ges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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fenzionata da pietra e legn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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ersonaggi religios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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imal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457200" y="2606760"/>
            <a:ext cx="4038480" cy="27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9T08:25:32Z</dcterms:created>
  <dc:creator>cursant</dc:creator>
  <dc:description/>
  <dc:language>en-US</dc:language>
  <cp:lastModifiedBy>cursant</cp:lastModifiedBy>
  <dcterms:modified xsi:type="dcterms:W3CDTF">2010-03-19T08:19:05Z</dcterms:modified>
  <cp:revision>6</cp:revision>
  <dc:subject/>
  <dc:title>L’inverno </dc:title>
</cp:coreProperties>
</file>